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8.png" ContentType="image/png"/>
  <Override PartName="/ppt/media/image1.wmf" ContentType="image/x-wmf"/>
  <Override PartName="/ppt/media/image5.gif" ContentType="image/gif"/>
  <Override PartName="/ppt/media/image31.wmf" ContentType="image/x-wmf"/>
  <Override PartName="/ppt/media/image38.jpeg" ContentType="image/jpeg"/>
  <Override PartName="/ppt/media/image25.gif" ContentType="image/gif"/>
  <Override PartName="/ppt/media/image24.png" ContentType="image/png"/>
  <Override PartName="/ppt/media/image22.png" ContentType="image/png"/>
  <Override PartName="/ppt/media/image21.jpeg" ContentType="image/jpeg"/>
  <Override PartName="/ppt/media/image27.jpeg" ContentType="image/jpeg"/>
  <Override PartName="/ppt/media/image11.png" ContentType="image/png"/>
  <Override PartName="/ppt/media/image19.jpeg" ContentType="image/jpeg"/>
  <Override PartName="/ppt/media/image6.wmf" ContentType="image/x-wmf"/>
  <Override PartName="/ppt/media/image10.png" ContentType="image/png"/>
  <Override PartName="/ppt/media/image35.jpeg" ContentType="image/jpeg"/>
  <Override PartName="/ppt/media/image9.png" ContentType="image/png"/>
  <Override PartName="/ppt/media/image30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34.jpeg" ContentType="image/jpeg"/>
  <Override PartName="/ppt/media/image37.png" ContentType="image/png"/>
  <Override PartName="/ppt/media/image4.jpeg" ContentType="image/jpeg"/>
  <Override PartName="/ppt/media/image3.gif" ContentType="image/gif"/>
  <Override PartName="/ppt/media/image26.gif" ContentType="image/gif"/>
  <Override PartName="/ppt/media/image12.png" ContentType="image/png"/>
  <Override PartName="/ppt/media/image23.jpeg" ContentType="image/jpeg"/>
  <Override PartName="/ppt/media/image14.jpeg" ContentType="image/jpeg"/>
  <Override PartName="/ppt/media/image15.wmf" ContentType="image/x-wmf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.jpeg" ContentType="image/jpeg"/>
  <Override PartName="/ppt/media/image18.wmf" ContentType="image/x-wmf"/>
  <Override PartName="/ppt/media/image3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293-D97B-4E53-89B7-4934FE04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2EA-76DF-4BD2-ACE0-8725A52D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5E6-9CDF-4C17-A13A-5622FA62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766-859B-4173-BD7F-D325DD87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892-973F-426E-A684-5A96231E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C5C-6F32-44C5-87CA-74C84950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69B-386C-4E80-81F2-54DDA3A1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172-EA72-402F-A462-49A971FF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70C-CB02-44E1-BE40-6A337740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5EF-9088-4A92-88DD-47B32316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FFA3-714B-40CA-BEA0-3C215D13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86C-F995-45F0-9809-8AA9B771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D024-4BD8-4098-98A6-A5A68B5F31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nellinfrared.com/library/_view_msg.asp?refid=19" TargetMode="External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qksrv.net/click-291217-10273794?url=http%3A%2F%2Fwww.posternow.de%2Fonlineshop%2FDirectLinks.tpl%3Flan%3D1%26cod%3D1%26aid%3D8460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RISM"/>
          <p:cNvPicPr/>
          <p:nvPr/>
        </p:nvPicPr>
        <p:blipFill>
          <a:blip r:embed="rId1"/>
          <a:stretch/>
        </p:blipFill>
        <p:spPr>
          <a:xfrm>
            <a:off x="4267080" y="3048120"/>
            <a:ext cx="4597560" cy="2927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2144520"/>
            <a:ext cx="85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lectromagnetic Waves &amp;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he Electromagnetic Spectrum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RADIO WAVES</a:t>
            </a:r>
            <a:endParaRPr b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6760" y="2068560"/>
            <a:ext cx="453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ave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longes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wavelengths and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lowest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requencies of all the electromagnetic waves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3106800" y="1963800"/>
            <a:ext cx="9360" cy="9360"/>
            <a:chOff x="3106800" y="1963800"/>
            <a:chExt cx="9360" cy="9360"/>
          </a:xfrm>
        </p:grpSpPr>
        <p:grpSp>
          <p:nvGrpSpPr>
            <p:cNvPr id="83" name="Group 5"/>
            <p:cNvGrpSpPr/>
            <p:nvPr/>
          </p:nvGrpSpPr>
          <p:grpSpPr>
            <a:xfrm>
              <a:off x="3111480" y="1968480"/>
              <a:ext cx="360" cy="360"/>
              <a:chOff x="3111480" y="1968480"/>
              <a:chExt cx="360" cy="360"/>
            </a:xfrm>
          </p:grpSpPr>
          <p:sp>
            <p:nvSpPr>
              <p:cNvPr id="84" name="Rectangle 6"/>
              <p:cNvSpPr/>
              <p:nvPr/>
            </p:nvSpPr>
            <p:spPr>
              <a:xfrm>
                <a:off x="3111480" y="1968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" name="Rectangle 7"/>
              <p:cNvSpPr/>
              <p:nvPr/>
            </p:nvSpPr>
            <p:spPr>
              <a:xfrm>
                <a:off x="3111480" y="1968480"/>
                <a:ext cx="36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86" name="Rectangle 8"/>
            <p:cNvSpPr/>
            <p:nvPr/>
          </p:nvSpPr>
          <p:spPr>
            <a:xfrm>
              <a:off x="3106800" y="1963800"/>
              <a:ext cx="9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pic>
        <p:nvPicPr>
          <p:cNvPr id="87" name="Picture 11" descr=""/>
          <p:cNvPicPr/>
          <p:nvPr/>
        </p:nvPicPr>
        <p:blipFill>
          <a:blip r:embed="rId1"/>
          <a:stretch/>
        </p:blipFill>
        <p:spPr>
          <a:xfrm>
            <a:off x="5056200" y="1719360"/>
            <a:ext cx="3913200" cy="4682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66840" y="34128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lobal Positioning Systems (GPS) measure the time it takes a radio wave to travel from several satellites to the receiver, determining the distance to each satellit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0" name="Picture 5" descr="Image Preview"/>
          <p:cNvPicPr/>
          <p:nvPr/>
        </p:nvPicPr>
        <p:blipFill>
          <a:blip r:embed="rId1"/>
          <a:stretch/>
        </p:blipFill>
        <p:spPr>
          <a:xfrm>
            <a:off x="4962600" y="2720880"/>
            <a:ext cx="3821040" cy="3673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Image Preview"/>
          <p:cNvPicPr/>
          <p:nvPr/>
        </p:nvPicPr>
        <p:blipFill>
          <a:blip r:embed="rId2"/>
          <a:stretch/>
        </p:blipFill>
        <p:spPr>
          <a:xfrm>
            <a:off x="789120" y="3228840"/>
            <a:ext cx="344808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6840" y="239760"/>
            <a:ext cx="8410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radio picks up radio waves through an antenna and converts it to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sound wav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ach radio station in an area broadcasts at a different frequency.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# on radio dial tells frequenc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Picture 5" descr="MCj02158010000[1]"/>
          <p:cNvPicPr/>
          <p:nvPr/>
        </p:nvPicPr>
        <p:blipFill>
          <a:blip r:embed="rId1"/>
          <a:stretch/>
        </p:blipFill>
        <p:spPr>
          <a:xfrm>
            <a:off x="1795320" y="2852640"/>
            <a:ext cx="5597640" cy="37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072"/>
          <p:cNvPicPr/>
          <p:nvPr/>
        </p:nvPicPr>
        <p:blipFill>
          <a:blip r:embed="rId1"/>
          <a:stretch/>
        </p:blipFill>
        <p:spPr>
          <a:xfrm>
            <a:off x="2550960" y="2681280"/>
            <a:ext cx="3916440" cy="3916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644400" y="357120"/>
            <a:ext cx="8055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RI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MAGNETIC RESONACE IMAGING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s Short wave radio waves with a magnet to create an imag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MICROWAV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4240" y="1647720"/>
            <a:ext cx="44355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ave the shortest wavelengths and the highest frequency of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radio waves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342040" y="1547640"/>
            <a:ext cx="2465280" cy="4913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0840" y="893880"/>
            <a:ext cx="434808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d in microwave oven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aves transfer energy to the water in the food causing them to vibrate which in turn transfers energy in the form of heat to the food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1" name="Picture 6" descr="MCj03356520000[1]"/>
          <p:cNvPicPr/>
          <p:nvPr/>
        </p:nvPicPr>
        <p:blipFill>
          <a:blip r:embed="rId1"/>
          <a:stretch/>
        </p:blipFill>
        <p:spPr>
          <a:xfrm>
            <a:off x="514440" y="2157480"/>
            <a:ext cx="4333680" cy="29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7800" y="1981080"/>
            <a:ext cx="434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RADA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o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tectio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ging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d to find the speed of an object by sending out radio waves and measuring the time it takes them to retur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4" name="Picture 5" descr="Image Preview"/>
          <p:cNvPicPr/>
          <p:nvPr/>
        </p:nvPicPr>
        <p:blipFill>
          <a:blip r:embed="rId1"/>
          <a:stretch/>
        </p:blipFill>
        <p:spPr>
          <a:xfrm>
            <a:off x="4976640" y="1573200"/>
            <a:ext cx="370692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NFRARED RAY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15560" y="1719000"/>
            <a:ext cx="3868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Infrared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= below re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orter wavelength and higher frequency than microwave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813280" y="1327320"/>
            <a:ext cx="2286000" cy="553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You can feel the longest ones as warmth on your sk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rm objects give off more heat energy than cool object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Picture 7" descr="Image Preview"/>
          <p:cNvPicPr/>
          <p:nvPr/>
        </p:nvPicPr>
        <p:blipFill>
          <a:blip r:embed="rId1"/>
          <a:stretch/>
        </p:blipFill>
        <p:spPr>
          <a:xfrm>
            <a:off x="5194440" y="2039760"/>
            <a:ext cx="3706560" cy="37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lob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60760" y="2532240"/>
            <a:ext cx="4683240" cy="4325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2571840" y="15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04920" y="244440"/>
            <a:ext cx="8592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hermogra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—a picture that shows regions of different temperatures in the body.  Temperatures are calculated by the amount of infrared radiation given off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Picture 6" descr="Image Preview"/>
          <p:cNvPicPr/>
          <p:nvPr/>
        </p:nvPicPr>
        <p:blipFill>
          <a:blip r:embed="rId3"/>
          <a:stretch/>
        </p:blipFill>
        <p:spPr>
          <a:xfrm>
            <a:off x="0" y="2924280"/>
            <a:ext cx="4392720" cy="3405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3640" y="1836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refore people give off infrared ray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08240" y="1646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at lamps give off infrared wav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Electromagnetic Waves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363320"/>
            <a:ext cx="861048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Transverse waves without a medium!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They can travel through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empty spac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6" name="Picture 9" descr="Image Preview"/>
          <p:cNvPicPr/>
          <p:nvPr/>
        </p:nvPicPr>
        <p:blipFill>
          <a:blip r:embed="rId1"/>
          <a:stretch/>
        </p:blipFill>
        <p:spPr>
          <a:xfrm>
            <a:off x="1670040" y="2676600"/>
            <a:ext cx="5978520" cy="4181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VISIBLE LIGH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6080" y="1312560"/>
            <a:ext cx="52498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orter wavelength and higher frequency than infrared ray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lectromagnetic waves w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can se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Longest wavelength= red ligh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ff"/>
                </a:solidFill>
                <a:uFillTx/>
                <a:latin typeface="Comic Sans MS"/>
              </a:rPr>
              <a:t>Shortest wavelength= violet (purple) ligh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19640" y="1263600"/>
            <a:ext cx="2186280" cy="5594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440" y="27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1" name="Picture 3" descr="Prism.gif"/>
          <p:cNvPicPr/>
          <p:nvPr/>
        </p:nvPicPr>
        <p:blipFill>
          <a:blip r:embed="rId1"/>
          <a:stretch/>
        </p:blipFill>
        <p:spPr>
          <a:xfrm>
            <a:off x="741240" y="3379680"/>
            <a:ext cx="4044960" cy="3033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prism"/>
          <p:cNvPicPr/>
          <p:nvPr/>
        </p:nvPicPr>
        <p:blipFill>
          <a:blip r:embed="rId2"/>
          <a:stretch/>
        </p:blipFill>
        <p:spPr>
          <a:xfrm>
            <a:off x="507960" y="282600"/>
            <a:ext cx="4937040" cy="24685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5527800" y="1446120"/>
            <a:ext cx="32814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light enters a new medium it bends (refracts).  Each wavelength bends a different amount allowing white light to separate into it’s various color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ROYGBIV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colors vs. wavelengths.jpg"/>
          <p:cNvPicPr/>
          <p:nvPr/>
        </p:nvPicPr>
        <p:blipFill>
          <a:blip r:embed="rId1"/>
          <a:stretch/>
        </p:blipFill>
        <p:spPr>
          <a:xfrm>
            <a:off x="965160" y="2368440"/>
            <a:ext cx="6886440" cy="364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5" name="TextBox 2"/>
          <p:cNvSpPr/>
          <p:nvPr/>
        </p:nvSpPr>
        <p:spPr>
          <a:xfrm>
            <a:off x="438120" y="263520"/>
            <a:ext cx="763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fferent colors have differ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avelengths.  Red has longest and violet h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shortes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ULTRAVIOLET RAY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9680" y="1415880"/>
            <a:ext cx="4421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horter wavelength and higher frequency than visible ligh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rry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more energy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than visible ligh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5826240" y="1273320"/>
            <a:ext cx="2760480" cy="5368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9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Used to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kill bacteria.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(Sterilization of equipment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1" name="Picture 5" descr="Image Preview"/>
          <p:cNvPicPr/>
          <p:nvPr/>
        </p:nvPicPr>
        <p:blipFill>
          <a:blip r:embed="rId1"/>
          <a:stretch/>
        </p:blipFill>
        <p:spPr>
          <a:xfrm>
            <a:off x="4219560" y="2255760"/>
            <a:ext cx="492444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688680"/>
            <a:ext cx="777240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o much can cause skin cancer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Use sun block to protect against (UV rays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4" name="Picture 5" descr="Image Preview"/>
          <p:cNvPicPr/>
          <p:nvPr/>
        </p:nvPicPr>
        <p:blipFill>
          <a:blip r:embed="rId1"/>
          <a:stretch/>
        </p:blipFill>
        <p:spPr>
          <a:xfrm>
            <a:off x="544680" y="3171960"/>
            <a:ext cx="3779640" cy="3404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MCj03564530000[1]"/>
          <p:cNvPicPr/>
          <p:nvPr/>
        </p:nvPicPr>
        <p:blipFill>
          <a:blip r:embed="rId2"/>
          <a:stretch/>
        </p:blipFill>
        <p:spPr>
          <a:xfrm>
            <a:off x="5289480" y="2971800"/>
            <a:ext cx="3143160" cy="36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473120"/>
            <a:ext cx="376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uses your skin to produc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vitamin 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(good for teeth and bones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8" name="Picture 5" descr="vitamin_d"/>
          <p:cNvPicPr/>
          <p:nvPr/>
        </p:nvPicPr>
        <p:blipFill>
          <a:blip r:embed="rId1"/>
          <a:stretch/>
        </p:blipFill>
        <p:spPr>
          <a:xfrm>
            <a:off x="4367160" y="1174680"/>
            <a:ext cx="4602240" cy="50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X- RAY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1091880"/>
            <a:ext cx="4029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orter wavelength and higher frequency than UV-ray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arry a great amount of energ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an penetrate most matter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5511960" y="923760"/>
            <a:ext cx="2982600" cy="5661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gray7"/>
          <p:cNvPicPr/>
          <p:nvPr/>
        </p:nvPicPr>
        <p:blipFill>
          <a:blip r:embed="rId1"/>
          <a:stretch/>
        </p:blipFill>
        <p:spPr>
          <a:xfrm>
            <a:off x="1577880" y="1805040"/>
            <a:ext cx="6478560" cy="48434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561960" y="357120"/>
            <a:ext cx="8278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Bones and tee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bsorb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x-rays. (The light part of an x-ray image indicates a place where the x-ray was absorbed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28480" y="14605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o much exposur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can cause cancer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lead vest at dentist protects organs from unnecessary exposure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6" name="Picture 8" descr="Image Preview"/>
          <p:cNvPicPr/>
          <p:nvPr/>
        </p:nvPicPr>
        <p:blipFill>
          <a:blip r:embed="rId1"/>
          <a:stretch/>
        </p:blipFill>
        <p:spPr>
          <a:xfrm>
            <a:off x="5900760" y="1979640"/>
            <a:ext cx="2028960" cy="40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3760" y="282600"/>
            <a:ext cx="8570880" cy="58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travel as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vibrations in electrical and magnetic field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ve  some magnetic and some electrical properties to them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9" name="Picture 5" descr="an animated electromagnetic wave"/>
          <p:cNvPicPr/>
          <p:nvPr/>
        </p:nvPicPr>
        <p:blipFill>
          <a:blip r:embed="rId1"/>
          <a:stretch/>
        </p:blipFill>
        <p:spPr>
          <a:xfrm>
            <a:off x="2192400" y="3297240"/>
            <a:ext cx="5207040" cy="277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emwave"/>
          <p:cNvPicPr/>
          <p:nvPr/>
        </p:nvPicPr>
        <p:blipFill>
          <a:blip r:embed="rId2"/>
          <a:stretch/>
        </p:blipFill>
        <p:spPr>
          <a:xfrm>
            <a:off x="246240" y="3287880"/>
            <a:ext cx="8516880" cy="27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d b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engineer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o check for tiny cracks in structur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rays pass through the cracks and the cracks appear dark on fil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5" descr="Image Preview"/>
          <p:cNvPicPr/>
          <p:nvPr/>
        </p:nvPicPr>
        <p:blipFill>
          <a:blip r:embed="rId1"/>
          <a:stretch/>
        </p:blipFill>
        <p:spPr>
          <a:xfrm>
            <a:off x="4352760" y="2125800"/>
            <a:ext cx="3967200" cy="43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GAMMA RAY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06080" y="1661760"/>
            <a:ext cx="5234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orter wavelength and higher frequency than X-ray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arry th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greatest amount of energy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penetrate the most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265400" y="29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6148440" y="1273320"/>
            <a:ext cx="2189160" cy="5357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878040"/>
            <a:ext cx="77724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Used i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radiation treatment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o kill cancer cell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an be very harmful if not used correctly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6" name="Picture 5" descr="Image Preview"/>
          <p:cNvPicPr/>
          <p:nvPr/>
        </p:nvPicPr>
        <p:blipFill>
          <a:blip r:embed="rId1"/>
          <a:stretch/>
        </p:blipFill>
        <p:spPr>
          <a:xfrm>
            <a:off x="2332080" y="3408480"/>
            <a:ext cx="4683240" cy="30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99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Incredible Hulk was the victim of gamma radiation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Picture 4" descr="The Incredible Hulk - Incredible Hulk, The - Pic 1  ( Glossy Photos 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81680" y="1255680"/>
            <a:ext cx="3671640" cy="46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1824120"/>
            <a:ext cx="4011480" cy="33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Exploding nuclear weapons emit gamma rays.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1" name="Picture 4" descr="optbomb_sm"/>
          <p:cNvPicPr/>
          <p:nvPr/>
        </p:nvPicPr>
        <p:blipFill>
          <a:blip r:embed="rId1"/>
          <a:stretch/>
        </p:blipFill>
        <p:spPr>
          <a:xfrm>
            <a:off x="4881600" y="2151000"/>
            <a:ext cx="3957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Brief SUMMARY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.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ll electromagnetic wav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ravel at the same speed.  (300,000,000 meters/second) in a vacuu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.  They all have differen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avelength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nd differen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frequenci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ng wavelength-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west frequenc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hort wavelength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ighest frequenc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higher the frequency 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higher the energ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EMSpec"/>
          <p:cNvPicPr/>
          <p:nvPr/>
        </p:nvPicPr>
        <p:blipFill>
          <a:blip r:embed="rId1"/>
          <a:stretch/>
        </p:blipFill>
        <p:spPr>
          <a:xfrm>
            <a:off x="152280" y="533520"/>
            <a:ext cx="8991720" cy="5333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0760" y="299520"/>
            <a:ext cx="8461440" cy="634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an electric field changes, so does the magnetic field.  The changing magnetic field causes the electric field to change.  When one field vibrates—so does the othe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SUL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A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electromagnetic wav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4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" name="Picture 4" descr="emw.gif"/>
          <p:cNvPicPr/>
          <p:nvPr/>
        </p:nvPicPr>
        <p:blipFill>
          <a:blip r:embed="rId1"/>
          <a:stretch/>
        </p:blipFill>
        <p:spPr>
          <a:xfrm>
            <a:off x="2409840" y="3359160"/>
            <a:ext cx="4213080" cy="3160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433080"/>
            <a:ext cx="7756560" cy="21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Electromagnetic waves travel VERY FAST – around 300,000 kilometres per second (the speed of light)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5" name="Picture 4" descr="EARTH"/>
          <p:cNvPicPr/>
          <p:nvPr/>
        </p:nvPicPr>
        <p:blipFill>
          <a:blip r:embed="rId1"/>
          <a:srcRect l="0" t="26107" r="0" b="6678"/>
          <a:stretch/>
        </p:blipFill>
        <p:spPr>
          <a:xfrm>
            <a:off x="5097600" y="2919240"/>
            <a:ext cx="3832200" cy="3627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330120" y="2652840"/>
            <a:ext cx="39290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66ffff"/>
                </a:solidFill>
                <a:latin typeface="Comic Sans MS"/>
              </a:rPr>
              <a:t>At this speed they can go around the world 8 times in one second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AutoShape 8"/>
          <p:cNvSpPr/>
          <p:nvPr/>
        </p:nvSpPr>
        <p:spPr>
          <a:xfrm flipH="1" rot="17452200">
            <a:off x="5133600" y="3433680"/>
            <a:ext cx="908280" cy="2644920"/>
          </a:xfrm>
          <a:custGeom>
            <a:avLst/>
            <a:gdLst>
              <a:gd name="textAreaLeft" fmla="*/ 132840 w 908280"/>
              <a:gd name="textAreaRight" fmla="*/ 775440 w 908280"/>
              <a:gd name="textAreaTop" fmla="*/ 387360 h 2644920"/>
              <a:gd name="textAreaBottom" fmla="*/ 2257560 h 2644920"/>
            </a:gdLst>
            <a:ahLst/>
            <a:rect l="textAreaLeft" t="textAreaTop" r="textAreaRight" b="textAreaBottom"/>
            <a:pathLst>
              <a:path w="21600" h="21600">
                <a:moveTo>
                  <a:pt x="15852" y="14946"/>
                </a:moveTo>
                <a:cubicBezTo>
                  <a:pt x="16811" y="13777"/>
                  <a:pt x="17336" y="12312"/>
                  <a:pt x="17336" y="10800"/>
                </a:cubicBezTo>
                <a:cubicBezTo>
                  <a:pt x="17336" y="7190"/>
                  <a:pt x="14409" y="4264"/>
                  <a:pt x="10800" y="4264"/>
                </a:cubicBezTo>
                <a:cubicBezTo>
                  <a:pt x="8866" y="4263"/>
                  <a:pt x="7032" y="5120"/>
                  <a:pt x="5790" y="6602"/>
                </a:cubicBezTo>
                <a:lnTo>
                  <a:pt x="2521" y="3863"/>
                </a:lnTo>
                <a:cubicBezTo>
                  <a:pt x="4573" y="1414"/>
                  <a:pt x="760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3298"/>
                  <a:pt x="20733" y="15720"/>
                  <a:pt x="19148" y="17651"/>
                </a:cubicBezTo>
                <a:lnTo>
                  <a:pt x="21235" y="19364"/>
                </a:lnTo>
                <a:lnTo>
                  <a:pt x="14434" y="20034"/>
                </a:lnTo>
                <a:lnTo>
                  <a:pt x="13765" y="13233"/>
                </a:lnTo>
                <a:lnTo>
                  <a:pt x="15852" y="1494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aves or Particle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ectromagnetic radiation has properties of waves but also can be thought of a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tream of particl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ample:  Ligh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ght as a wave:  Light behaves as a transverse wave which we can filter using polarized lens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ght as particles (photons): When directed at a substance light can knock electrons off of a substance (Photoelectric effect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44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3909960" y="2813040"/>
            <a:ext cx="122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44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2" name="Picture 6" descr="Polariz.gif"/>
          <p:cNvPicPr/>
          <p:nvPr/>
        </p:nvPicPr>
        <p:blipFill>
          <a:blip r:embed="rId1"/>
          <a:stretch/>
        </p:blipFill>
        <p:spPr>
          <a:xfrm>
            <a:off x="1038240" y="4924440"/>
            <a:ext cx="2743200" cy="146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222px-Photoelectric_effect"/>
          <p:cNvPicPr/>
          <p:nvPr/>
        </p:nvPicPr>
        <p:blipFill>
          <a:blip r:embed="rId2"/>
          <a:stretch/>
        </p:blipFill>
        <p:spPr>
          <a:xfrm>
            <a:off x="5168880" y="4757760"/>
            <a:ext cx="2463840" cy="17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240" y="280800"/>
            <a:ext cx="8915400" cy="51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Electromagnetic Spectru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—name for the range of electromagnetic waves when placed in order of increasing frequenc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01600" y="2260440"/>
            <a:ext cx="8704440" cy="45975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28480" y="2351160"/>
            <a:ext cx="1447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ADIO WAV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062000" y="3265560"/>
            <a:ext cx="2438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CROWAV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281320" y="2351160"/>
            <a:ext cx="19047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FRARED RAY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843360" y="3341520"/>
            <a:ext cx="2552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 LIGH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4567320" y="227484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LTRAVIOLET RAY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6548400" y="3189240"/>
            <a:ext cx="1447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-RAY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7462800" y="2198520"/>
            <a:ext cx="1447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AMMA RAY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Size comparison of wavelenghts with respective objects."/>
          <p:cNvPicPr/>
          <p:nvPr/>
        </p:nvPicPr>
        <p:blipFill>
          <a:blip r:embed="rId1"/>
          <a:stretch/>
        </p:blipFill>
        <p:spPr>
          <a:xfrm>
            <a:off x="0" y="2795760"/>
            <a:ext cx="9144000" cy="4062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49120" y="189000"/>
            <a:ext cx="866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tice the wavelength i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ng (Radio waves) and gets shorter (Gamma Ray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Line 4"/>
          <p:cNvSpPr/>
          <p:nvPr/>
        </p:nvSpPr>
        <p:spPr>
          <a:xfrm flipH="1">
            <a:off x="1355400" y="1146240"/>
            <a:ext cx="955800" cy="21366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Line 5"/>
          <p:cNvSpPr/>
          <p:nvPr/>
        </p:nvSpPr>
        <p:spPr>
          <a:xfrm>
            <a:off x="7635960" y="1157400"/>
            <a:ext cx="669960" cy="20095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9" name="Picture 4" descr="EMSpec"/>
          <p:cNvPicPr/>
          <p:nvPr/>
        </p:nvPicPr>
        <p:blipFill>
          <a:blip r:embed="rId1"/>
          <a:stretch/>
        </p:blipFill>
        <p:spPr>
          <a:xfrm>
            <a:off x="0" y="923760"/>
            <a:ext cx="9144000" cy="504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14:49:25Z</dcterms:created>
  <dc:creator>W Richards</dc:creator>
  <dc:description/>
  <dc:language>en-US</dc:language>
  <cp:lastModifiedBy>jluckey</cp:lastModifiedBy>
  <dcterms:modified xsi:type="dcterms:W3CDTF">2014-01-30T15:15:01Z</dcterms:modified>
  <cp:revision>47</cp:revision>
  <dc:subject/>
  <dc:title>PowerPoint Presentation</dc:title>
</cp:coreProperties>
</file>